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2729-B507-4D03-9297-93AEFF9F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ED01-1EA2-45FB-A207-43062CE8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B838-7BEF-406E-8589-42713157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B682-E8CF-496C-8A90-0C238258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BB6B-F823-4958-A5D9-29CBE8BD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A44F-C95C-4C77-A570-F62D87FF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0913-CAA5-4E42-95BB-8C7A1AF4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A85F-02E8-4418-9A85-EBB5F931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6A35-D8A2-4CA7-A561-E447D221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795A-2B45-4B53-9E92-1BE85415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C4DD-F2BF-4113-A8E2-0F2BC8DC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F6BB-A5FE-46D2-8197-B6096065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66BE-5263-422E-8643-F58008C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2CB-00EA-4FF1-8702-C3D9BB1B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E441-7C11-4C39-B0A6-19D371F1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D389-687E-4F6B-ABC5-10A50906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BB8E-DC78-4BC9-A894-5D7354F9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79CE-7FEC-44E5-8EE8-E6F27E7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D9F9-4FF8-4F36-8B9D-8A673B58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F984-51B0-4FDA-872B-69D687A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BE7B-4B4D-4C60-AAAA-B06DE4DC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CCF3-4646-43DD-902F-AC7DCA7F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6ED3-1F3F-4421-99C3-3B05DB6B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33F8-D6E1-4C96-A123-5ED1DDCB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C154-56A3-4E5A-98A5-E4B2370BA1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F8C0-3CCD-40A6-974B-180017301A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mpact of Diet on Health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or ate mainly whole grains and veget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tein sources: whole grain wheat, cheese and eg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et lacked Vitamin A and C before harvest led to scurv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ch ate mainly me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d not eat veget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et lacked Vitamin A and C also led to Gou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ddle class had most nutritionally balanced di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e meat and dairy regularly but still ate vegetabl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nges in Di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asants diet more varied in England and Low Count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 crop from the Americas- the pota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tained vitamin A and 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uld be harvested during the win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 calorie yield per acre than gr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reland first to farm them- had little la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ing of potatoes spread slow but widespread by end of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n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believed potatoes were not edib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38680" y="4648320"/>
            <a:ext cx="20574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nges in Die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gardening gr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mitropical fruit seeds available in coastal c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England white bread is made for the rich instead of whole gr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d little nutritional value and lacked vitami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gar consumption increased by ri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ices dropped due to slave labor in the Americ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d to more cavities and tooth deca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pillsbury_doughboy.jpg PILSBURY image by JellyLovesJelly"/>
          <p:cNvPicPr/>
          <p:nvPr/>
        </p:nvPicPr>
        <p:blipFill>
          <a:blip r:embed="rId1"/>
          <a:stretch/>
        </p:blipFill>
        <p:spPr>
          <a:xfrm>
            <a:off x="6657840" y="3200400"/>
            <a:ext cx="18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7:16Z</dcterms:created>
  <dc:creator>MNS</dc:creator>
  <dc:description/>
  <dc:language>en-US</dc:language>
  <cp:lastModifiedBy>MNS</cp:lastModifiedBy>
  <dcterms:modified xsi:type="dcterms:W3CDTF">2009-12-07T14:51:57Z</dcterms:modified>
  <cp:revision>6</cp:revision>
  <dc:subject/>
  <dc:title>Impact of Diet on Health</dc:title>
</cp:coreProperties>
</file>